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650FF92-5A8E-4F3E-AAF1-1A97F9AF2F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9760" y="681120"/>
            <a:ext cx="4552920" cy="3414600"/>
          </a:xfrm>
          <a:prstGeom prst="rect">
            <a:avLst/>
          </a:prstGeom>
          <a:ln w="0">
            <a:noFill/>
          </a:ln>
        </p:spPr>
      </p:sp>
      <p:sp>
        <p:nvSpPr>
          <p:cNvPr id="780"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4440" y="687240"/>
            <a:ext cx="4567320" cy="3426120"/>
          </a:xfrm>
          <a:prstGeom prst="rect">
            <a:avLst/>
          </a:prstGeom>
          <a:ln w="0">
            <a:noFill/>
          </a:ln>
        </p:spPr>
      </p:sp>
      <p:sp>
        <p:nvSpPr>
          <p:cNvPr id="78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4EA45-93EE-448A-87C3-66DBC94B4D9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5F012F-4AF7-42EF-9A01-0B1D5EEA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CD7303-7BEA-4AE6-8EDC-AB51BA09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018D02-3768-46E9-9C86-3BB528F4E8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20C999-BD18-406C-ABFD-B939CFAA9E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96A53B7-15BF-4745-8A5C-4DA820191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3259C1D-06F4-4235-A5F5-E0DCAC597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926251C5-77CF-463D-B7E5-7C7CED5F5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CD6B682F-12E2-43FE-90EB-AA3478663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3EDD2436-8932-44F2-9CFA-B9F7DE0B2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754B159D-2612-4B70-AB49-38C6EC212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49783-6D45-46AC-BD5C-111B9B5BD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230C54C8-DC06-4C12-964A-AE51C82ED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C7471F92-2088-4ECA-974B-38A4B037F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6ADDDC76-794B-41A3-A988-2491F6F2F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17516196-FE4F-493E-99BF-51F7D9AF9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D0636796-E5B9-45AC-9621-F01EBF5BBD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58B59-79D7-40D5-B997-3C9D38F67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2243C-64B8-444B-BD57-3B062F2BB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219E4077-996C-4328-AED5-ECFC3A163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A4708FE-F451-4FB3-83B8-8895EDCA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921C1-EE42-433F-A7B4-9525A153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699CF-A79E-495C-BAE2-C5ACD5B7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46F452-5661-43D3-85B1-B70813FAD7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0CCA-8FED-4F83-BC54-0C00AD6891A5}"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F357-B6B8-48A3-9A6D-2ECF576F7A1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7257-D70C-4EA3-BC4A-0F710DE48E48}" type="datetime3">
              <a:rPr b="0" lang="en-US" sz="2400" spc="-1" strike="noStrike">
                <a:solidFill>
                  <a:srgbClr val="898989"/>
                </a:solidFill>
                <a:latin typeface="Times New Roman"/>
              </a:rPr>
              <a:t>July 30,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3684-5652-49C7-9C83-F5C4D66D408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842C-16F3-4E07-A97F-7D18CE26D14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BF9F-E922-4D69-9939-D86FDC9B20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ah’s Case Study</a:t>
            </a:r>
            <a:endParaRPr b="1" lang="en-US" sz="2000" spc="-1" strike="noStrike">
              <a:solidFill>
                <a:srgbClr val="000000"/>
              </a:solidFill>
              <a:latin typeface="Arial"/>
            </a:endParaRPr>
          </a:p>
        </p:txBody>
      </p:sp>
      <p:sp>
        <p:nvSpPr>
          <p:cNvPr id="76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ah’s LBO Teetering</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is that this is worse than the worst-case scenario.</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n executive closely involved with the Harrah’s LBO on the worst case scenarios factored into their models at the time of the deal, quoted in “Harrah’s Changes Its Game: Tough Times For Gambling, Large Debt Force Shift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equity shops TPG and Apollo took it private for $17 billion back in 2006.  They piled on a bunch of debt to do the deal: Harrah’s has $24 billion in debt right now.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economy going down the tubes, Harrah’s casino properties are being badly squeezed.  Harrah’s had about $1.5 billion in operating cash flows in 2006 and 2007 - when times were good.  But Harrah’s only had about $12 billion in debt at the end of 2007 and $800 million in interest expense that year.  Interest expense for the first half of 2008 was more than $900 million.  That extra interest expense is going to eat up most of their operating cash flow and the slowing economy will likely eat up the rest. </a:t>
            </a:r>
            <a:endParaRPr b="0" lang="en-US" sz="1400" spc="-1" strike="noStrike">
              <a:solidFill>
                <a:srgbClr val="000000"/>
              </a:solidFill>
              <a:latin typeface="Arial"/>
            </a:endParaRPr>
          </a:p>
        </p:txBody>
      </p:sp>
      <p:sp>
        <p:nvSpPr>
          <p:cNvPr id="76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D2E6-A205-4B3C-BB6E-751FB5403C3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8C84-03B7-4A38-8087-CD73CA530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ly traded casino operators MGM Grand (MGM) and Las Vegas Sands (LVS) are down 90% and 96% from their highs just 1 year ago!  These things also look like they are already pricing in a severe recession - or even a depression.  It suggests investors are worried they will even be able to survi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18F3-987E-428E-B3DA-F5B27ECA8DE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631E-A4BE-4096-94CB-8D4FE49A69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010</a:t>
            </a:r>
            <a:endParaRPr b="1" lang="en-US" sz="2000" spc="-1" strike="noStrike">
              <a:solidFill>
                <a:srgbClr val="000000"/>
              </a:solidFill>
              <a:latin typeface="Arial"/>
            </a:endParaRPr>
          </a:p>
        </p:txBody>
      </p:sp>
      <p:sp>
        <p:nvSpPr>
          <p:cNvPr id="77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3.3 billion of 10 percent bonds due in December 2018, rated CCC by Standard &amp; Poor’s, slid 2.25 cents to 86 cents on the dollar as of 5:04 p.m. in New York, according to Trace, the bond-price reporting system of the Financial Industry Regulatory Authority. The debt has fallen from as high as 93.5 cents on Nov. 5.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rah’s LBO had closed as a deepening financial crisis spurred the worst recession since the Great Depression and froze deal-making in the buyout industr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7497-ACDC-4294-A0A1-0CB1711FA9E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E5AF-B07C-4362-BDCC-6774F57331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ino operator’s private equity owners had cut the company’s debt by more than $4 billion in the past two years by offering creditors new bonds at a discount for their old notes, buying back other debt for less than face value and extending maturities on $5.5 billion in loan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which will be rechristened Caesars Entertainment to reflect its most famous Las Vegas property, Caesars Palace, plans to sell 31.25 million shares at $15 to $17 a share late this week, through a broad Wall Street underwriting group. The LBO sponsors have a cost basis of $20 a share on their stock, which will trade under the ticker CZ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DEB5-CE44-4DA2-8B52-B307578D92A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401B-FA06-439F-87AE-2BABA4FE30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D23C308-0010-4D41-A7FB-7C9710ABEC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C5AB62B-5939-4B89-B8D9-811770A888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EFDE-1701-40A3-A3D9-E740C745FCA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3543-39D4-403E-A416-B2FC9C1634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D056-FA04-4978-BD08-F2690AE87E8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BE6F-CA39-44D6-954B-519D15438B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1E46-D284-47CD-A0C0-239219F4518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CD21-713C-4B5A-AF83-A51B70FEED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B9C4-2EF9-42E2-9ABF-90C08AFBC6E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F2D8-4849-4D52-BF29-9404CA56F5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A792-EDFD-4853-9E5F-383E84DAC7F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C09B-0A1F-4761-85AA-B50DE4CC73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0063-95BB-4DD8-85BF-DBB57D97210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1DB6-F6E5-4BB5-A8E3-D93B3CE51E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B58-5957-4AA5-B01C-052A5AA75DB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1428-7416-4861-82C9-ADAFF1677E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F313-B7F2-4557-8EC9-09015C7BB8E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0217-0FBE-4023-89BD-971C395E86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4ACB-A116-42DF-B4DB-ED31A777D72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CBC6-D521-492E-8186-433666A643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0B63-B93C-4C4E-AEA4-E79F32B2E6F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E703-A0B5-4BBE-84C6-FC6D1C33EE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1087-8BF3-4C71-B670-B85EDD72879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FE55-253E-4771-B113-AB71BCDFCF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77DB-EEC4-449A-B486-AF963CCFDB7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A296-B896-4F55-B8BB-4B45598914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8BD4-ABB8-438B-881A-7CC47979BF8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E4DF-8D64-41DA-B391-4FBB64CF70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2C09-8589-4A28-8673-DE21E1044AF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A21D-FCA4-46AB-B4A3-0AE5A142CE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D316-6EC3-4100-9C39-9EF1805F37D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3A06-F41F-45A7-A3B1-6F9B94E5B8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197-CE0D-4D34-B7FE-6CBAA665A2B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5541-9CE7-4F72-9C9E-1A66791887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8127-9560-4B51-88F0-976B1DCA098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C0A0-D1DD-4BFE-83C7-24F4162CA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4D42406-99E6-46A2-8ACC-9E4A424655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FA55-48FB-4066-BABA-CE502CBD2C1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7AA3-F080-4A9F-8463-F41BE33337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3240-A235-4720-9D19-1EF165DFC8A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26BB-C079-483A-B813-425B8F993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CB99-63E9-4895-98C7-40986B2A075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B3EA-9C91-4915-86B8-77E10F18DC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27C8-75BC-49D6-BE20-06CB86DFCB1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8346-81C6-4359-A503-B900867E87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DE4A-5CCD-4E98-B316-06574B71C18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4595-AAFD-40E4-9109-06E802BDCA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AB1F-2AFB-4465-904B-F62C735416C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BEE9-1745-478B-BDA5-802B8D6C89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ED30-AD6E-4140-BF1D-CA2E0F1097D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8EE4-7EA4-4E78-A272-1C17051DD0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B294-8DE1-433A-BFDD-FFFD8A80AA9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BC25-5F87-4B0A-ABA9-0AFE873389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D8BC-444D-4454-8569-D6D21385D98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068A-91BC-4757-87D8-C9F1EC235D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39E8-AA9C-4A9C-B04D-C59E597DFBD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719C-D4E4-46B3-BDEF-ED4A2A0ED8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D144-4423-4FC7-9D4E-15208E42DED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ADC8-52A5-41E2-9146-1A1A816DEE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76BD-2435-4F2C-8A1A-56F2BC00487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EB3D-8E1E-4B2F-BD5F-38DB056C74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B7AB-EF31-41AB-9C9C-1BACF748C4E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01CC-5EE0-461B-B899-C895FF96C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168B-5B63-4973-895D-45F6EED4346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D95B-8AD5-4175-8AA4-CA77E35E74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983A-BAEF-48DC-965E-1673C2D4761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8BD9-689E-49F6-822F-F314950C9C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B79D-9108-4901-A7BA-A1E847B24F2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3221-4008-4D6F-A166-4053E5A275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9C04-CE82-41A2-8051-6AB067F4740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59FB-86BF-45F1-AD3A-AF55EF0475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1A44-4999-4930-8B3F-5C2E656BAC0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3E39-D82A-43FA-A412-4098D9F5F8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514A-649F-47EC-9863-221D3D416962}"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0C7B-F816-4BAF-A478-FCB242076D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685F-368F-4AB9-A4A9-6FC331BF22B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9955-6D1C-4964-8C24-9DC424C2F3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3DE2-53F7-4C4A-A3B3-761ABA138D7D}"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D91D-B4BC-46A8-8B0D-3DB80825D7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A928-E4F7-4CC4-8047-B75AE49B778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8DA5-6E09-4FD5-8394-C7C5041A24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ED11-5B0D-4A4B-BA7B-14DB92C4FF3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5F88-F05F-44B6-AD7C-621BC2CFE7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A8A-2FA6-493C-A8B5-3F9D8549D7F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2C06-36B1-4C41-AAD2-18F1C74890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07A5-497C-4C92-90D4-17855798C09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2DBD-3334-4D55-984E-3762D1DB47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E22E-5B39-4BC1-93BC-4ABA79FCBCE4}"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B4F2-2A1A-43DF-83DD-9B44E8C4A0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6DD5-F321-41E9-97DB-3DE0A979214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4787-E5A7-4FD6-91BE-349E703D7E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B4EA-760C-4836-8D16-1A5595144C5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5712-D5F0-4B5B-B175-30714A8BA6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1091-DC68-4040-BC4E-7EA17F82CA5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E5C6-06E8-499D-ACBA-E56A61C28B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B1DE-45DB-4D39-8B45-61C95C51FF8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66F2-22E8-4195-8F46-055C6F95B6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9D8C-CBC7-4C45-BFBB-6F502E4F790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B240-49E3-440C-ADBF-877AEC5BF2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B378-AD6E-4897-B5EB-8E70F950882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EB57-C629-4864-88E6-A2C56C9763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D893-288B-4E68-8DFC-3D76A969CAB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AF4A-32E9-4A24-A2E7-D04CA7A4CA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76E7-D875-4232-BD07-85786512290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A5EB-5733-4BD7-905C-76E366216E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CCE9-6C5E-4D16-8131-EED0D8C57D6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5E85-8AEF-4D57-9398-5691E805C1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FB3B-D859-491D-B824-AA424AA15E7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C0AE-3DD5-4BC2-B9AC-406A0BAE1F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320-19D2-4C3F-8CB7-671A9D117C8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743B-9F6C-4916-A4C3-B71AAD0FC9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71EE-943E-4F63-95CA-CDB994C1A46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9290-72E4-46C6-990E-30F517EBF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A76B-7D72-4D9B-8B2F-98CB41A1AC98}"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CED9-567F-48D3-A1F7-C93FD16653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C908-FEC7-40C6-8071-5C5D6D24D79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F7FB-38F7-4F45-BCC0-87C8092A59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64A5-7AF5-4074-82BD-5580517C70EB}"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3EE-B869-49B9-A24E-AA3EA3428F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0A1E-3943-4056-8840-46FEB8A9D08C}"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0F0C-98CA-437F-8119-6F8E6400E4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0CCA-8FB3-43D4-A286-C51CB7FFE13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C663-A592-4132-81CA-30F75B9C1B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B4FA-885D-45C7-8197-C3DCF172DC30}"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5778-142F-4B16-B4C3-2643D9B0FC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3788-AD2A-4EF6-A204-26AB62423BE9}"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3460-7C62-4F1A-AB54-2AA4994BAA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DAE7-3902-47EF-888E-EDFB29E4E597}"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D3A7-1439-4EBD-A11F-9F77A95643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7840-EC9C-436B-928E-4655E8977C7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7B68-56C9-42E6-9BED-00469CF802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2767-88F4-465B-B951-6455F1A5300A}"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92E2-3A29-40DE-8E5F-47EA842046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976C-F5A4-4964-A27C-0AC4F6A415C5}"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A504-0E4A-46EF-9A23-F15DCFD9B0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F57F-CBC3-4506-AB40-7BAFB274ECF3}"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B9CC-8922-4C4C-AE05-6956C9F9DB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3F0E-BE09-43CD-9054-12A646344E1E}"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4235-DCF3-45F1-BA47-C3BC5FB8BF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F709-1EF2-477C-A81E-A9DA398A14EF}"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48F9-52A4-49FE-BD15-B9819E17DD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B7D5-D3FF-426E-966D-5434E313025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2090-7B05-4391-876D-676BEDFDA2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2C07-3B25-4AE3-8B80-252F50B7C6E1}"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2245-65EC-4157-ACDC-1201CCEAC7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5582-D6DD-423B-81DE-4F3921107296}" type="datetime3">
              <a:rPr b="0" lang="en-US" sz="1200" spc="-1" strike="noStrike">
                <a:solidFill>
                  <a:srgbClr val="898989"/>
                </a:solidFill>
                <a:latin typeface="Arial"/>
              </a:rPr>
              <a:t>July 30,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A12D-B973-43B7-B13D-BA2C94507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Elvis Presley</cp:lastModifiedBy>
  <cp:lastPrinted>1999-07-15T13:20:36Z</cp:lastPrinted>
  <dcterms:modified xsi:type="dcterms:W3CDTF">2012-07-05T15:10:25Z</dcterms:modified>
  <cp:revision>245</cp:revision>
  <dc:subject>Freedom</dc:subject>
  <dc:title>LBO General Discussion</dc:title>
</cp:coreProperties>
</file>